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513A3-1441-4AC2-AD24-9AC4320E3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041CA-BF24-4D0E-A7EF-8A415CB54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CCE91-1DB6-4FDF-890A-DEC11E2D2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52E82-2670-43AA-903A-4517A9723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14A0F9-4820-40B4-9FF5-206E178CF5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E82BF-87FD-400E-968D-B21934F98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452F9-2A19-4DF6-8487-8ED8ED4FD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9DC55-C1AA-4ACF-8BF9-F76E5978F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FE45E-9A00-4814-B87C-A87BDC070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CED9D-283C-4ABA-90EB-01B78158A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B178F-68CE-48E6-B8E1-E27CAABF4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9D34C-5BC8-479E-B01D-7CE069F55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2453C-D414-4746-BD7A-C5BE95091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4AFFA-5FB1-4C48-8E08-04BB7AB48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6E4EC-2DAA-4D1B-AD22-AE43D7B21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95AB84-F462-440C-A7A5-8BF66131F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97EFE5-219F-4910-BE73-8733A30DD8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44F493-73AE-4FD5-90EA-43386E30EC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356725-78F9-4DCD-9534-12911B6BBB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FABFD2-3637-4AB3-88B1-F535C7B535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056812-6102-4231-A66A-6FBEB6FB49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C82E8B-F18B-4365-9278-A8257843C5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48EDC-FF11-4587-896E-32E44D940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DE7269-CCF3-4AE7-A612-447E2E0664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4D526A-0CF6-4A85-8965-FFEDC61515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505ED7-6A17-4990-8436-257F6F3961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34EE4-84E2-41A9-A890-BEA49B7FDB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021E64-52B5-4359-B396-E74AE92FEA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1C8622-34D7-4FD8-B19D-8F3D5EEB87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395944-5264-4A54-97AC-8125288355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55C04A-A7A6-4D4B-BAA9-54ED5C4322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7F11BE-B3DE-4E69-B87F-6B8288C35E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0ACEE7-2541-405D-A680-CF899780C2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5AB05-28CA-474A-9975-ACD9E4D70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AB9CCB-CF2C-4A0F-A2F5-F5C0306E79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E9D8B0-0230-41DB-B1ED-5984610D34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B5531F-A3E4-4906-8BB2-81742716D5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C7156B-E4CC-4741-A935-82326152D2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B098A9-A3B2-4996-9998-3B6A03DFEC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0D7678-F826-4D1D-8E00-48F1A37ACB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043512-3E83-4641-8625-067C2DEC51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8AE8D0-3D85-40D8-B01C-AD3F26425B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CAAF31-133E-4374-A188-CC69F409C8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177E8E-6D2F-4574-B441-ACC4CDE78D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F8520-8B1E-4C88-9BE9-A8D529738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DF54E1-01BD-4EA9-8222-50AABF3A6F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6AD360-60A0-4D4E-A687-4F2763BD2E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5C6EAA-295E-43FD-A7BE-1307B37621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130201-45BD-4A40-8AD0-DAFD0D6320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261059-1C13-4AFC-BD15-5C25E230BD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76A27B-B499-453B-AFCB-8E81541B34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538112-8896-4ED4-B053-43709018C8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0FB608-DEF4-49FB-B4E8-63D04E8E99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097739-0FAC-490D-9978-F447FF89AA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A6E1AA-2B99-4D28-A12B-EC1F75C7D4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D917A-7727-4C54-B663-45E3BF023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4982E0-C2FD-4837-93F6-CA35794B3C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88E0B8-51C3-41E1-9621-DE8A7F6E0D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3CBB70-E533-4A56-8D30-9E54297A0C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87E433-6948-4530-8A7B-DBF4133B9C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690A7D-BCD3-4C91-8BC0-43A93EA574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0EFF9E-E553-489D-89A3-EC5BFB2263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594942-D340-4162-929A-A2D5962514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6BD9CF-07CC-4892-9B3B-E314DD7BB8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174D75-F8F5-4CEF-96CD-CC15244D63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65CFEA-2800-46B8-90CF-B603F38FB6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64686-B123-4D7A-8A6E-548A9C7D6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ED262F-9359-4FAC-B3A8-B3EA7D9111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AFBE05-6C86-466E-AC2C-8A63A0B182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FEDD58-A67C-4CEB-ACDC-0A4536FFC7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B98C60-79A8-4F7F-B025-6FE63C2402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6EB8BC-0FBE-4127-B88B-B6ABF658E8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C27C18-D084-4070-9B88-7344A5142A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333209-615E-4BB6-A8D4-85F505A87A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33FA3C-3DD5-4C7C-9B61-68929339C6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60F404-2D4A-4087-8003-2490FB5C32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425CF0-80B8-455D-9800-015AD657AD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8F197-8AE5-44B5-9D43-52F7A9503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96827D-346D-47CF-9123-52D942D4C9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9B8411-6746-420B-A65D-EAA877033F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437358-BE11-4A00-83DA-95995B52C4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30043E-03C8-45C5-8B48-C2639ACB25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1BE319-0C6C-47E9-9B07-63139760FC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F149C-5059-4AC0-841C-8358A47C2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C434-72D1-4A3F-BC55-E3F9FDD12F3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2AFA-78C9-4C7C-BDAD-94596C0BC6B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38492-1299-43A4-A804-305B065E3DE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0353-8541-49C6-A989-AFE78CD50CA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EC13-87B7-4E17-9416-460027A2E7C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77E0-D335-4A95-894E-18FB79677EB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7505-AACB-4A6B-89C1-6ADDEFA4FE7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storycenter.org/cookbook.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todaysteacher.com/Digital_Storytelling/wangdoodle.wmv" TargetMode="External"/><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torycenter.org/timeline.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igitalstorytelling.coe.uh.edu/intro/DS-intro.htm" TargetMode="External"/><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xtexit.com/nextexit/nextframeset.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682560" y="4237200"/>
            <a:ext cx="8010720" cy="209052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untold story</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s told by Jolandra White (EDUC 8841)</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mplementation . . .</a:t>
            </a:r>
            <a:endParaRPr b="0" lang="en-US" sz="4000" spc="-1" strike="noStrike">
              <a:solidFill>
                <a:srgbClr val="c1eeff"/>
              </a:solidFill>
              <a:latin typeface="Consolas"/>
            </a:endParaRPr>
          </a:p>
        </p:txBody>
      </p:sp>
      <p:sp>
        <p:nvSpPr>
          <p:cNvPr id="393"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4-1998 -  “Life on the Water creates the ‘Home Movies’ digital storytelling workshops, leading Dana, Joe, and Joe's wife Nina Mullen to found the San Francisco Digital Media Center (SFDMC)”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firmation . . .</a:t>
            </a:r>
            <a:endParaRPr b="0" lang="en-US" sz="4000" spc="-1" strike="noStrike">
              <a:solidFill>
                <a:srgbClr val="c1eeff"/>
              </a:solidFill>
              <a:latin typeface="Consolas"/>
            </a:endParaRPr>
          </a:p>
        </p:txBody>
      </p:sp>
      <p:sp>
        <p:nvSpPr>
          <p:cNvPr id="395" name=""/>
          <p:cNvSpPr txBox="1"/>
          <p:nvPr/>
        </p:nvSpPr>
        <p:spPr>
          <a:xfrm>
            <a:off x="914400" y="1784520"/>
            <a:ext cx="7772400" cy="4572000"/>
          </a:xfrm>
          <a:prstGeom prst="rect">
            <a:avLst/>
          </a:prstGeom>
          <a:noFill/>
          <a:ln w="0">
            <a:noFill/>
          </a:ln>
        </p:spPr>
        <p:txBody>
          <a:bodyPr lIns="90000" rIns="90000" tIns="46800" bIns="46800" anchor="t">
            <a:normAutofit fontScale="92000"/>
          </a:bodyPr>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1994 – “The SFDMC undertakes collaborations with numerous organizations in England, Germany, and Denmark and is featured in stories about digital storytelling on CNN and MSNBC, as well as in countless print and online articles” (Center for Digital Storytelling).</a:t>
            </a:r>
            <a:endParaRPr b="0" lang="en-US" sz="2600" spc="-1" strike="noStrike">
              <a:solidFill>
                <a:srgbClr val="ffffff"/>
              </a:solidFill>
              <a:latin typeface="Corbel"/>
            </a:endParaRPr>
          </a:p>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1996 – “With support from Apple Computer, the SFDMC publishes the first version of the </a:t>
            </a:r>
            <a:r>
              <a:rPr b="0" i="1" lang="en-US" sz="2600" spc="-1" strike="noStrike">
                <a:solidFill>
                  <a:srgbClr val="ffffff"/>
                </a:solidFill>
                <a:latin typeface="Corbel"/>
              </a:rPr>
              <a:t>Digital Storytelling Cookbook</a:t>
            </a:r>
            <a:r>
              <a:rPr b="0" lang="en-US" sz="2600" spc="-1" strike="noStrike">
                <a:solidFill>
                  <a:srgbClr val="ffffff"/>
                </a:solidFill>
                <a:latin typeface="Corbel"/>
              </a:rPr>
              <a:t>, outlining the ‘Seven Elements’ of digital storytelling and offering hands-on production tutorials” (Center for Digital Storytelling).</a:t>
            </a:r>
            <a:endParaRPr b="0" lang="en-US" sz="2600" spc="-1" strike="noStrike">
              <a:solidFill>
                <a:srgbClr val="ffffff"/>
              </a:solidFill>
              <a:latin typeface="Corbel"/>
            </a:endParaRPr>
          </a:p>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b8803"/>
                </a:solidFill>
                <a:uFillTx/>
                <a:latin typeface="Corbel"/>
                <a:hlinkClick r:id="rId1"/>
              </a:rPr>
              <a:t>http://www.storycenter.org/cookbook.html</a:t>
            </a:r>
            <a:r>
              <a:rPr b="0" lang="en-US" sz="2600" spc="-1" strike="noStrike">
                <a:solidFill>
                  <a:srgbClr val="ffffff"/>
                </a:solidFill>
                <a:latin typeface="Corbel"/>
              </a:rPr>
              <a:t> </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533520"/>
            <a:ext cx="8763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Educational Uses of Digital Storytelling</a:t>
            </a:r>
            <a:endParaRPr b="0" lang="en-US" sz="3200" spc="-1" strike="noStrike">
              <a:solidFill>
                <a:srgbClr val="c1eeff"/>
              </a:solidFill>
              <a:latin typeface="Consolas"/>
            </a:endParaRPr>
          </a:p>
        </p:txBody>
      </p:sp>
      <p:pic>
        <p:nvPicPr>
          <p:cNvPr id="397" name="Picture 2" descr="">
            <a:hlinkClick r:id="rId1"/>
          </p:cNvPr>
          <p:cNvPicPr/>
          <p:nvPr/>
        </p:nvPicPr>
        <p:blipFill>
          <a:blip r:embed="rId2"/>
          <a:stretch/>
        </p:blipFill>
        <p:spPr>
          <a:xfrm>
            <a:off x="2362320" y="2590920"/>
            <a:ext cx="4733640" cy="3865320"/>
          </a:xfrm>
          <a:prstGeom prst="rect">
            <a:avLst/>
          </a:prstGeom>
          <a:ln w="0">
            <a:noFill/>
          </a:ln>
        </p:spPr>
      </p:pic>
      <p:pic>
        <p:nvPicPr>
          <p:cNvPr id="398" name="Rectangle 5" descr=""/>
          <p:cNvPicPr/>
          <p:nvPr/>
        </p:nvPicPr>
        <p:blipFill>
          <a:blip r:embed="rId3"/>
          <a:stretch/>
        </p:blipFill>
        <p:spPr>
          <a:xfrm>
            <a:off x="2736720" y="2206800"/>
            <a:ext cx="3645000" cy="261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igital Storytelling</a:t>
            </a:r>
            <a:endParaRPr b="0" lang="en-US" sz="4000" spc="-1" strike="noStrike">
              <a:solidFill>
                <a:srgbClr val="c1eeff"/>
              </a:solidFill>
              <a:latin typeface="Consolas"/>
            </a:endParaRPr>
          </a:p>
        </p:txBody>
      </p:sp>
      <p:pic>
        <p:nvPicPr>
          <p:cNvPr id="400" name="" descr=""/>
          <p:cNvPicPr/>
          <p:nvPr/>
        </p:nvPicPr>
        <p:blipFill>
          <a:blip r:embed="rId1"/>
          <a:stretch/>
        </p:blipFill>
        <p:spPr>
          <a:xfrm>
            <a:off x="914400" y="1784520"/>
            <a:ext cx="777240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ferences</a:t>
            </a:r>
            <a:endParaRPr b="0" lang="en-US" sz="4000" spc="-1" strike="noStrike">
              <a:solidFill>
                <a:srgbClr val="c1eeff"/>
              </a:solidFill>
              <a:latin typeface="Consolas"/>
            </a:endParaRPr>
          </a:p>
        </p:txBody>
      </p:sp>
      <p:sp>
        <p:nvSpPr>
          <p:cNvPr id="402" name=""/>
          <p:cNvSpPr txBox="1"/>
          <p:nvPr/>
        </p:nvSpPr>
        <p:spPr>
          <a:xfrm>
            <a:off x="914400" y="1295280"/>
            <a:ext cx="7772400" cy="4572000"/>
          </a:xfrm>
          <a:prstGeom prst="rect">
            <a:avLst/>
          </a:prstGeom>
          <a:noFill/>
          <a:ln w="0">
            <a:noFill/>
          </a:ln>
        </p:spPr>
        <p:txBody>
          <a:bodyPr lIns="90000" rIns="90000" tIns="46800" bIns="46800" anchor="t">
            <a:normAutofit fontScale="99000"/>
          </a:bodyPr>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Center for Digital Storytelling. (2009). The evolution of digital storytelling:</a:t>
            </a:r>
            <a:br>
              <a:rPr sz="1700"/>
            </a:br>
            <a:r>
              <a:rPr b="0" lang="en-US" sz="1700" spc="-1" strike="noStrike">
                <a:solidFill>
                  <a:srgbClr val="ffffff"/>
                </a:solidFill>
                <a:latin typeface="Corbel"/>
              </a:rPr>
              <a:t>An abbreviated history of key moments during the first sixteen years (1993-2006). Retrieved July 2, 2009, from </a:t>
            </a:r>
            <a:r>
              <a:rPr b="0" lang="en-US" sz="1700" spc="-1" strike="noStrike" u="sng">
                <a:solidFill>
                  <a:srgbClr val="eb8803"/>
                </a:solidFill>
                <a:uFillTx/>
                <a:latin typeface="Corbel"/>
                <a:hlinkClick r:id="rId1"/>
              </a:rPr>
              <a:t>http://www.storycenter.org/timeline.html</a:t>
            </a:r>
            <a:r>
              <a:rPr b="0" lang="en-US" sz="1700" spc="-1" strike="noStrike">
                <a:solidFill>
                  <a:srgbClr val="ffffff"/>
                </a:solidFill>
                <a:latin typeface="Corbel"/>
              </a:rPr>
              <a:t> </a:t>
            </a: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Innovative Teaching Concepts. (2009). Digital storytelling: The very last of the great whangdoodles [video recording]. Retrieved July 3, 2009, from http://www.todaysteacher.com/Digital_Storytelling/wangdoodle.wmv </a:t>
            </a: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Tucker, G. (2006). First person singular: The power of digital storytelling. </a:t>
            </a:r>
            <a:r>
              <a:rPr b="0" i="1" lang="en-US" sz="1700" spc="-1" strike="noStrike">
                <a:solidFill>
                  <a:srgbClr val="ffffff"/>
                </a:solidFill>
                <a:latin typeface="Corbel"/>
              </a:rPr>
              <a:t>Screen Education, 42</a:t>
            </a:r>
            <a:r>
              <a:rPr b="0" lang="en-US" sz="1700" spc="-1" strike="noStrike">
                <a:solidFill>
                  <a:srgbClr val="ffffff"/>
                </a:solidFill>
                <a:latin typeface="Corbel"/>
              </a:rPr>
              <a:t>, 54-58.</a:t>
            </a: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University of Houston. (2008). The educational uses of digital storytelling: An introduction to digital storytelling [video recording]. Retrieved June 25, 2009, from http://digitalstorytelling.coe.uh.edu/index.html </a:t>
            </a: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Wikipedia. (2009). </a:t>
            </a:r>
            <a:r>
              <a:rPr b="0" i="1" lang="en-US" sz="1700" spc="-1" strike="noStrike">
                <a:solidFill>
                  <a:srgbClr val="ffffff"/>
                </a:solidFill>
                <a:latin typeface="Corbel"/>
              </a:rPr>
              <a:t>Digital storytelling. </a:t>
            </a:r>
            <a:r>
              <a:rPr b="0" lang="en-US" sz="1700" spc="-1" strike="noStrike">
                <a:solidFill>
                  <a:srgbClr val="ffffff"/>
                </a:solidFill>
                <a:latin typeface="Corbel"/>
              </a:rPr>
              <a:t>Retrieved June 25, 2009, from http://en.wikipedia.org/wiki/Digital_storytelling</a:t>
            </a: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source</a:t>
            </a:r>
            <a:endParaRPr b="0" lang="en-US" sz="4000" spc="-1" strike="noStrike">
              <a:solidFill>
                <a:srgbClr val="c1eeff"/>
              </a:solidFill>
              <a:latin typeface="Consolas"/>
            </a:endParaRPr>
          </a:p>
        </p:txBody>
      </p:sp>
      <p:sp>
        <p:nvSpPr>
          <p:cNvPr id="404"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enter for Digital Story Tell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nextexit.com/nextexit/nextframeset.html</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storycenter.org/cookbook.html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electronicportfolios.org/digistory/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1: Need . . .</a:t>
            </a:r>
            <a:endParaRPr b="0" lang="en-US" sz="4000" spc="-1" strike="noStrike">
              <a:solidFill>
                <a:srgbClr val="c1eeff"/>
              </a:solidFill>
              <a:latin typeface="Consolas"/>
            </a:endParaRPr>
          </a:p>
        </p:txBody>
      </p:sp>
      <p:pic>
        <p:nvPicPr>
          <p:cNvPr id="371" name="Picture 2" descr="C:\Program Files\Microsoft Office\MEDIA\CAGCAT10\j0299125.wmf"/>
          <p:cNvPicPr/>
          <p:nvPr/>
        </p:nvPicPr>
        <p:blipFill>
          <a:blip r:embed="rId1"/>
          <a:stretch/>
        </p:blipFill>
        <p:spPr>
          <a:xfrm>
            <a:off x="3962520" y="4800600"/>
            <a:ext cx="1100160" cy="1805040"/>
          </a:xfrm>
          <a:prstGeom prst="rect">
            <a:avLst/>
          </a:prstGeom>
          <a:ln w="0">
            <a:noFill/>
          </a:ln>
        </p:spPr>
      </p:pic>
      <p:sp>
        <p:nvSpPr>
          <p:cNvPr id="372" name="TextBox 4"/>
          <p:cNvSpPr/>
          <p:nvPr/>
        </p:nvSpPr>
        <p:spPr>
          <a:xfrm>
            <a:off x="990720" y="1371600"/>
            <a:ext cx="7238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problem or need existed that gave rise to Digital Storytelling?</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1800" spc="-1" strike="noStrike">
                <a:solidFill>
                  <a:srgbClr val="ffffff"/>
                </a:solidFill>
                <a:latin typeface="Corbel"/>
              </a:rPr>
              <a:t>Digital Storytelling’ is an emerging term, one that arises from a grassroots movement that uses new digital tools to help ordinary people tell their own ‘true stories’ in a compelling and emotional engaging form” (Wikipedia, 2009, ¶ 1)</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2: Research . . .</a:t>
            </a:r>
            <a:endParaRPr b="0" lang="en-US" sz="4000" spc="-1" strike="noStrike">
              <a:solidFill>
                <a:srgbClr val="c1eeff"/>
              </a:solidFill>
              <a:latin typeface="Consolas"/>
            </a:endParaRPr>
          </a:p>
        </p:txBody>
      </p:sp>
      <p:pic>
        <p:nvPicPr>
          <p:cNvPr id="374" name="Picture 2" descr="C:\Program Files\Microsoft Office\MEDIA\CAGCAT10\j0195384.wmf"/>
          <p:cNvPicPr/>
          <p:nvPr/>
        </p:nvPicPr>
        <p:blipFill>
          <a:blip r:embed="rId1"/>
          <a:stretch/>
        </p:blipFill>
        <p:spPr>
          <a:xfrm>
            <a:off x="3657600" y="4800600"/>
            <a:ext cx="1795320" cy="1833480"/>
          </a:xfrm>
          <a:prstGeom prst="rect">
            <a:avLst/>
          </a:prstGeom>
          <a:ln w="0">
            <a:noFill/>
          </a:ln>
        </p:spPr>
      </p:pic>
      <p:sp>
        <p:nvSpPr>
          <p:cNvPr id="375" name="TextBox 5"/>
          <p:cNvSpPr/>
          <p:nvPr/>
        </p:nvSpPr>
        <p:spPr>
          <a:xfrm>
            <a:off x="914400" y="1295280"/>
            <a:ext cx="79246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research organization or people developed a solution to this problem or need? What were their findings? Who were the ‘lead thinkers’ for this innovation, and how did they convince a manufacturer to produce it?</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t>
            </a:r>
            <a:r>
              <a:rPr b="0" lang="en-US" sz="1800" spc="-1" strike="noStrike">
                <a:solidFill>
                  <a:srgbClr val="ffffff"/>
                </a:solidFill>
                <a:latin typeface="Corbel"/>
              </a:rPr>
              <a:t>Some of the artists that have self-described as digital storytellers included Joe Lambert, Massimo Don, Massimo Laurel, Dana Atchley and Massimo Meyer” (Wikipedia, 2009, ¶ 3).</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t>
            </a:r>
            <a:r>
              <a:rPr b="0" lang="en-US" sz="1800" spc="-1" strike="noStrike">
                <a:solidFill>
                  <a:srgbClr val="ffffff"/>
                </a:solidFill>
                <a:latin typeface="Corbel"/>
              </a:rPr>
              <a:t>Digital storytelling  has its roots in the American community theatre movement, emerging in California in the late eighties through the collaboration of performing artist Dana Atchley and actor Joe Lambert” (Tucker, 2006, p. 54).</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3: Development . . .</a:t>
            </a:r>
            <a:endParaRPr b="0" lang="en-US" sz="4000" spc="-1" strike="noStrike">
              <a:solidFill>
                <a:srgbClr val="c1eeff"/>
              </a:solidFill>
              <a:latin typeface="Consolas"/>
            </a:endParaRPr>
          </a:p>
        </p:txBody>
      </p:sp>
      <p:pic>
        <p:nvPicPr>
          <p:cNvPr id="377" name="Picture 4" descr="C:\Program Files\Microsoft Office\MEDIA\CAGCAT10\j0285410.wmf"/>
          <p:cNvPicPr/>
          <p:nvPr/>
        </p:nvPicPr>
        <p:blipFill>
          <a:blip r:embed="rId1"/>
          <a:stretch/>
        </p:blipFill>
        <p:spPr>
          <a:xfrm>
            <a:off x="3809880" y="4800600"/>
            <a:ext cx="1866960" cy="1776240"/>
          </a:xfrm>
          <a:prstGeom prst="rect">
            <a:avLst/>
          </a:prstGeom>
          <a:ln w="0">
            <a:noFill/>
          </a:ln>
        </p:spPr>
      </p:pic>
      <p:sp>
        <p:nvSpPr>
          <p:cNvPr id="378" name="TextBox 7"/>
          <p:cNvSpPr/>
          <p:nvPr/>
        </p:nvSpPr>
        <p:spPr>
          <a:xfrm>
            <a:off x="1066680" y="1600200"/>
            <a:ext cx="7315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problems did Digital storytelling encounter in the development process? Who was the intended audience for Digital Storytelling?</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biggest problem found is the available technology. “Across Queensland, research by the Institute of Creative Industries at Queensland University of Technology (QUT) is showing that the uptake of computer use there is currently being affected by the digital divide” (Tucker 2006, p. 54).</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original intended audience was the people or society.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Consolas"/>
              </a:rPr>
              <a:t>Stage 4: Commercialization . . .</a:t>
            </a:r>
            <a:endParaRPr b="0" lang="en-US" sz="3400" spc="-1" strike="noStrike">
              <a:solidFill>
                <a:srgbClr val="c1eeff"/>
              </a:solidFill>
              <a:latin typeface="Consolas"/>
            </a:endParaRPr>
          </a:p>
        </p:txBody>
      </p:sp>
      <p:pic>
        <p:nvPicPr>
          <p:cNvPr id="380" name="Picture 4" descr="C:\Program Files\Microsoft Office\MEDIA\CAGCAT10\j0287005.wmf"/>
          <p:cNvPicPr/>
          <p:nvPr/>
        </p:nvPicPr>
        <p:blipFill>
          <a:blip r:embed="rId1"/>
          <a:stretch/>
        </p:blipFill>
        <p:spPr>
          <a:xfrm>
            <a:off x="4038480" y="4419720"/>
            <a:ext cx="1357560" cy="2332080"/>
          </a:xfrm>
          <a:prstGeom prst="rect">
            <a:avLst/>
          </a:prstGeom>
          <a:ln w="0">
            <a:noFill/>
          </a:ln>
        </p:spPr>
      </p:pic>
      <p:sp>
        <p:nvSpPr>
          <p:cNvPr id="381" name="TextBox 6"/>
          <p:cNvSpPr/>
          <p:nvPr/>
        </p:nvSpPr>
        <p:spPr>
          <a:xfrm>
            <a:off x="1066680" y="1600200"/>
            <a:ext cx="7162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Describe the production, manufacturing, packaging, marketing, and distribution of Digital Storytelling.</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Digital Storytelling is produced through workshops, in-class training,  websites and the Center for Digital Storytelling.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The Innovation-Decision Process</a:t>
            </a:r>
            <a:endParaRPr b="0" lang="en-US" sz="3600" spc="-1" strike="noStrike">
              <a:solidFill>
                <a:srgbClr val="c1eeff"/>
              </a:solidFill>
              <a:latin typeface="Consolas"/>
            </a:endParaRPr>
          </a:p>
        </p:txBody>
      </p:sp>
      <p:pic>
        <p:nvPicPr>
          <p:cNvPr id="383" name="Picture 4" descr="">
            <a:hlinkClick r:id="rId1"/>
          </p:cNvPr>
          <p:cNvPicPr/>
          <p:nvPr/>
        </p:nvPicPr>
        <p:blipFill>
          <a:blip r:embed="rId2"/>
          <a:stretch/>
        </p:blipFill>
        <p:spPr>
          <a:xfrm>
            <a:off x="1600200" y="2514600"/>
            <a:ext cx="6400800" cy="3657600"/>
          </a:xfrm>
          <a:prstGeom prst="rect">
            <a:avLst/>
          </a:prstGeom>
          <a:ln w="0">
            <a:noFill/>
          </a:ln>
        </p:spPr>
      </p:pic>
      <p:pic>
        <p:nvPicPr>
          <p:cNvPr id="384" name="Rectangle 4" descr=""/>
          <p:cNvPicPr/>
          <p:nvPr/>
        </p:nvPicPr>
        <p:blipFill>
          <a:blip r:embed="rId3"/>
          <a:stretch/>
        </p:blipFill>
        <p:spPr>
          <a:xfrm>
            <a:off x="3041640" y="1889280"/>
            <a:ext cx="3749760" cy="274320"/>
          </a:xfrm>
          <a:prstGeom prst="rect">
            <a:avLst/>
          </a:prstGeom>
          <a:ln w="0">
            <a:noFill/>
          </a:ln>
        </p:spPr>
      </p:pic>
      <p:sp>
        <p:nvSpPr>
          <p:cNvPr id="385" name="TextBox 6"/>
          <p:cNvSpPr/>
          <p:nvPr/>
        </p:nvSpPr>
        <p:spPr>
          <a:xfrm>
            <a:off x="1600200" y="640080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University of Houston, 2008)</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Knowledge . . .</a:t>
            </a:r>
            <a:endParaRPr b="0" lang="en-US" sz="4000" spc="-1" strike="noStrike">
              <a:solidFill>
                <a:srgbClr val="c1eeff"/>
              </a:solidFill>
              <a:latin typeface="Consolas"/>
            </a:endParaRPr>
          </a:p>
        </p:txBody>
      </p:sp>
      <p:sp>
        <p:nvSpPr>
          <p:cNvPr id="387" name=""/>
          <p:cNvSpPr txBox="1"/>
          <p:nvPr/>
        </p:nvSpPr>
        <p:spPr>
          <a:xfrm>
            <a:off x="914400" y="1784520"/>
            <a:ext cx="7772400" cy="4572000"/>
          </a:xfrm>
          <a:prstGeom prst="rect">
            <a:avLst/>
          </a:prstGeom>
          <a:noFill/>
          <a:ln w="0">
            <a:noFill/>
          </a:ln>
        </p:spPr>
        <p:txBody>
          <a:bodyPr lIns="90000" rIns="90000" tIns="46800" bIns="46800" anchor="t">
            <a:normAutofit/>
          </a:bodyPr>
          <a:p>
            <a:pPr marL="582480" indent="-514080">
              <a:lnSpc>
                <a:spcPct val="90000"/>
              </a:lnSpc>
              <a:spcBef>
                <a:spcPts val="700"/>
              </a:spcBef>
              <a:buClr>
                <a:srgbClr val="d6ecff"/>
              </a:buClr>
              <a:buSzPct val="95000"/>
              <a:buFont typeface="Corbel"/>
              <a:buAutoNum type="arabicPlain" startAt="198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fter viewing a production, Dana Atchley, local video producer, meets Joe Lambert, co-founder and executive director of the new Life On The Water Theater Company in San Francisco, California (Center for Digital Storytelling).</a:t>
            </a:r>
            <a:endParaRPr b="0" lang="en-US" sz="2800" spc="-1" strike="noStrike">
              <a:solidFill>
                <a:srgbClr val="ffffff"/>
              </a:solidFill>
              <a:latin typeface="Corbel"/>
            </a:endParaRPr>
          </a:p>
          <a:p>
            <a:pPr marL="582480" indent="-514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1988-90 – Atchley and Lambert collaborate to develop a Atchley’s</a:t>
            </a:r>
            <a:r>
              <a:rPr b="0" i="1" lang="en-US" sz="2800" spc="-1" strike="noStrike">
                <a:solidFill>
                  <a:srgbClr val="ffffff"/>
                </a:solidFill>
                <a:latin typeface="Corbel"/>
              </a:rPr>
              <a:t> Next Exit, an interactive theoretical performance.</a:t>
            </a:r>
            <a:endParaRPr b="0" lang="en-US" sz="2800" spc="-1" strike="noStrike">
              <a:solidFill>
                <a:srgbClr val="ffffff"/>
              </a:solidFill>
              <a:latin typeface="Corbel"/>
            </a:endParaRPr>
          </a:p>
          <a:p>
            <a:pPr marL="582480" indent="-514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Corbel"/>
                <a:hlinkClick r:id="rId1"/>
              </a:rPr>
              <a:t>http://www.nextexit.com/nextexit/nextframeset.html</a:t>
            </a:r>
            <a:r>
              <a:rPr b="0" lang="en-US" sz="2800" spc="-1" strike="noStrike">
                <a:solidFill>
                  <a:srgbClr val="ffffff"/>
                </a:solidFill>
                <a:latin typeface="Corbel"/>
              </a:rPr>
              <a:t>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rsuasion . . .</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3 – “Joe assists Dana in teaching three ‘digital storytelling workshops’ for documentary filmmakers, at the American Film Institute in Los Angeles, California”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ecision . . .</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3 - “Dana and Joe launch the ‘Digital Diner’ new media salons, which become a central point for dialogue among Bay Area new media producers”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6T02:33:25Z</dcterms:created>
  <dc:creator>Jolandra</dc:creator>
  <dc:description/>
  <dc:language>en-US</dc:language>
  <cp:lastModifiedBy>Jolandra</cp:lastModifiedBy>
  <dcterms:modified xsi:type="dcterms:W3CDTF">2009-07-04T04:59:09Z</dcterms:modified>
  <cp:revision>34</cp:revision>
  <dc:subject/>
  <dc:title>Digital Storytelling</dc:title>
</cp:coreProperties>
</file>